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7FCA3A-BBC1-4874-938C-8568BAB9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Num" idx="4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3BB849-15E4-489F-AF06-BD2DCBC0D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1" descr="MERS template TITLE (smaller bars)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5837400" y="6562800"/>
            <a:ext cx="2964960" cy="177120"/>
            <a:chOff x="5837400" y="6562800"/>
            <a:chExt cx="2964960" cy="177120"/>
          </a:xfrm>
        </p:grpSpPr>
        <p:sp>
          <p:nvSpPr>
            <p:cNvPr id="6" name="AutoShape 32"/>
            <p:cNvSpPr/>
            <p:nvPr/>
          </p:nvSpPr>
          <p:spPr>
            <a:xfrm>
              <a:off x="5838840" y="6564240"/>
              <a:ext cx="2962080" cy="17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4"/>
            <p:cNvSpPr/>
            <p:nvPr/>
          </p:nvSpPr>
          <p:spPr>
            <a:xfrm>
              <a:off x="583740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5964120" y="6595920"/>
              <a:ext cx="61560" cy="104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6"/>
            <p:cNvSpPr/>
            <p:nvPr/>
          </p:nvSpPr>
          <p:spPr>
            <a:xfrm>
              <a:off x="603396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37"/>
            <p:cNvSpPr/>
            <p:nvPr/>
          </p:nvSpPr>
          <p:spPr>
            <a:xfrm>
              <a:off x="615312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8"/>
            <p:cNvSpPr/>
            <p:nvPr/>
          </p:nvSpPr>
          <p:spPr>
            <a:xfrm>
              <a:off x="6261120" y="6595920"/>
              <a:ext cx="99720" cy="107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9"/>
            <p:cNvSpPr/>
            <p:nvPr/>
          </p:nvSpPr>
          <p:spPr>
            <a:xfrm>
              <a:off x="637236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0"/>
            <p:cNvSpPr/>
            <p:nvPr/>
          </p:nvSpPr>
          <p:spPr>
            <a:xfrm>
              <a:off x="647856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1"/>
            <p:cNvSpPr/>
            <p:nvPr/>
          </p:nvSpPr>
          <p:spPr>
            <a:xfrm>
              <a:off x="664992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2"/>
            <p:cNvSpPr/>
            <p:nvPr/>
          </p:nvSpPr>
          <p:spPr>
            <a:xfrm>
              <a:off x="6756480" y="6595920"/>
              <a:ext cx="102960" cy="10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3"/>
            <p:cNvSpPr/>
            <p:nvPr/>
          </p:nvSpPr>
          <p:spPr>
            <a:xfrm>
              <a:off x="687564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4"/>
            <p:cNvSpPr/>
            <p:nvPr/>
          </p:nvSpPr>
          <p:spPr>
            <a:xfrm>
              <a:off x="6989760" y="659592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5"/>
            <p:cNvSpPr/>
            <p:nvPr/>
          </p:nvSpPr>
          <p:spPr>
            <a:xfrm>
              <a:off x="710100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6"/>
            <p:cNvSpPr/>
            <p:nvPr/>
          </p:nvSpPr>
          <p:spPr>
            <a:xfrm>
              <a:off x="7215120" y="6672240"/>
              <a:ext cx="28080" cy="61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7"/>
            <p:cNvSpPr/>
            <p:nvPr/>
          </p:nvSpPr>
          <p:spPr>
            <a:xfrm>
              <a:off x="7327800" y="6562800"/>
              <a:ext cx="115560" cy="137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746460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9"/>
            <p:cNvSpPr/>
            <p:nvPr/>
          </p:nvSpPr>
          <p:spPr>
            <a:xfrm>
              <a:off x="7578720" y="6570720"/>
              <a:ext cx="56880" cy="131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50"/>
            <p:cNvSpPr/>
            <p:nvPr/>
          </p:nvSpPr>
          <p:spPr>
            <a:xfrm>
              <a:off x="770904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51"/>
            <p:cNvSpPr/>
            <p:nvPr/>
          </p:nvSpPr>
          <p:spPr>
            <a:xfrm>
              <a:off x="782640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52"/>
            <p:cNvSpPr/>
            <p:nvPr/>
          </p:nvSpPr>
          <p:spPr>
            <a:xfrm>
              <a:off x="7943760" y="6595920"/>
              <a:ext cx="99720" cy="144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53"/>
            <p:cNvSpPr/>
            <p:nvPr/>
          </p:nvSpPr>
          <p:spPr>
            <a:xfrm>
              <a:off x="8056440" y="6595920"/>
              <a:ext cx="97920" cy="107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>
              <a:off x="8174160" y="6595920"/>
              <a:ext cx="58320" cy="10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55"/>
            <p:cNvSpPr/>
            <p:nvPr/>
          </p:nvSpPr>
          <p:spPr>
            <a:xfrm>
              <a:off x="8237520" y="6599160"/>
              <a:ext cx="147240" cy="101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56"/>
            <p:cNvSpPr/>
            <p:nvPr/>
          </p:nvSpPr>
          <p:spPr>
            <a:xfrm>
              <a:off x="839304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57"/>
            <p:cNvSpPr/>
            <p:nvPr/>
          </p:nvSpPr>
          <p:spPr>
            <a:xfrm>
              <a:off x="8516880" y="6595920"/>
              <a:ext cx="60120" cy="104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58"/>
            <p:cNvSpPr/>
            <p:nvPr/>
          </p:nvSpPr>
          <p:spPr>
            <a:xfrm>
              <a:off x="859320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59"/>
            <p:cNvSpPr/>
            <p:nvPr/>
          </p:nvSpPr>
          <p:spPr>
            <a:xfrm>
              <a:off x="8691480" y="6562800"/>
              <a:ext cx="45720" cy="58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60"/>
            <p:cNvSpPr/>
            <p:nvPr/>
          </p:nvSpPr>
          <p:spPr>
            <a:xfrm>
              <a:off x="8747280" y="6564240"/>
              <a:ext cx="55080" cy="536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" name="Picture 61" descr="MERS LG logo"/>
          <p:cNvPicPr/>
          <p:nvPr/>
        </p:nvPicPr>
        <p:blipFill>
          <a:blip r:embed="rId5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4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Key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5120" y="4240080"/>
            <a:ext cx="8226000" cy="8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y Arn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qi H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Loan De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295280" y="3312360"/>
            <a:ext cx="6552720" cy="875880"/>
          </a:xfrm>
          <a:prstGeom prst="rect">
            <a:avLst/>
          </a:prstGeom>
          <a:ln w="9525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414000" y="1781280"/>
            <a:ext cx="8415360" cy="231156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414000" y="3576600"/>
            <a:ext cx="8415360" cy="210348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Incident Report De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552680" y="3269520"/>
            <a:ext cx="6038640" cy="96156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1272240" y="2646360"/>
            <a:ext cx="6509160" cy="103644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3"/>
          <a:stretch/>
        </p:blipFill>
        <p:spPr>
          <a:xfrm>
            <a:off x="417960" y="1825200"/>
            <a:ext cx="8321760" cy="248040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4"/>
          <a:stretch/>
        </p:blipFill>
        <p:spPr>
          <a:xfrm>
            <a:off x="417960" y="3630240"/>
            <a:ext cx="8321760" cy="228348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Email Notification 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rcRect l="44695" t="46863" r="0" b="0"/>
          <a:stretch/>
        </p:blipFill>
        <p:spPr>
          <a:xfrm>
            <a:off x="2010240" y="1399680"/>
            <a:ext cx="5142600" cy="76248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rcRect l="45344" t="0" r="0" b="0"/>
          <a:stretch/>
        </p:blipFill>
        <p:spPr>
          <a:xfrm>
            <a:off x="2032200" y="3695400"/>
            <a:ext cx="5105880" cy="26402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rcRect l="45320" t="0" r="0" b="0"/>
          <a:stretch/>
        </p:blipFill>
        <p:spPr>
          <a:xfrm>
            <a:off x="2025000" y="1900440"/>
            <a:ext cx="5127480" cy="271224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ha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incident reports to registered lo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igger notification al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loan registrations will be notified of matches on previously submitted incident repo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powerful when loan is registered at initial app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design allows all vendors to “plug and play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e 2 will add additional analytics,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risky players with incident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 vs. Pull”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ed notification alerts for life of the loan due to having the loan “actors” tied to the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-time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ystem Release 19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BS00580_"/>
          <p:cNvPicPr/>
          <p:nvPr/>
        </p:nvPicPr>
        <p:blipFill>
          <a:blip r:embed="rId1"/>
          <a:stretch/>
        </p:blipFill>
        <p:spPr>
          <a:xfrm>
            <a:off x="2513160" y="1819080"/>
            <a:ext cx="4117320" cy="3468600"/>
          </a:xfrm>
          <a:prstGeom prst="rect">
            <a:avLst/>
          </a:prstGeom>
          <a:ln w="9525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3145320" y="5535720"/>
            <a:ext cx="318204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June 14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Enhancements in Release 19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 Loan Transaction Edi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Property Preservation Company fields to the Detail Portfolio Analysi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Originating Organization and Property Preservation Company Fields to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ault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® InvestorID Phase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Enhancements in Release 19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ate servicer and subservicer for TOB Option 2 Batch Proces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QA on-request report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timeframe limit for reversals by registering Org I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property preservation company to XML and Batch Inquiry Data Retu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XML MIN inquiry processing 24x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reports available for 30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OM Loan Transaction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 no longer requires assignment information into MERS for a seasoned MOM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 that assignment from MERS is provided for transactions is still val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re-activating deactivated loans that have been assigned out of MERS, selecting ‘MOM’ no longer a valid option; all deactivated loans must be reactivated as a Non-MOM or iReg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roperty Preservation Company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ansaction Default Settings page now has option to include Property Preservation Companies, Originating Org ID, and Original Note Holder field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Inquiry transactions for Summary requests return property preservation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rtfolio Analysis (OB) report has been enhanced to include property preservation company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ystem Release 18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BS00580_"/>
          <p:cNvPicPr/>
          <p:nvPr/>
        </p:nvPicPr>
        <p:blipFill>
          <a:blip r:embed="rId1"/>
          <a:stretch/>
        </p:blipFill>
        <p:spPr>
          <a:xfrm>
            <a:off x="2513160" y="1819080"/>
            <a:ext cx="4117320" cy="3468600"/>
          </a:xfrm>
          <a:prstGeom prst="rect">
            <a:avLst/>
          </a:prstGeom>
          <a:ln w="9525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3145320" y="5535720"/>
            <a:ext cx="318204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June 28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Investor ID Pha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of Beneficial Rights Milestone now indicates the Mortgage Loan Transfer Notice was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new daily report lists MINs for which the Mortgage Loan Transfer Notice was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gage Loan Transfer Notices now appear on billing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new Investor Alternate Address and Servicer/Subservicer Alternate Address info used in MERS® ServicerID (web and toll-free number) and on Mortgage Loan Transfer No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Investor ID Pha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 investor opted out of displaying their information in proprietary or public applications, investor contact information will be provided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MIN search results in MERS® Link, and for requestors not associated with the MIN in MERS® OnLine, XML Inquiry and Batch Inqui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ERS® ServicerID (web and toll-free number) for borrow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Validate Servicer and Subservicer for TOB Option 2 Batch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6880" y="169704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dit verifies that current servicer or current sub-servicer org IDs on MINs match the org ID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ch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ors no longer allowed to initiate via batch or MER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ine Transfer of Beneficial Rights (TOB) Option 2 transactions; only current servicer and current subservicer can perform these trans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On-Request QA Reports and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Extended Availability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new "on-request" reports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rst lists active MINs in your portfolio with no security instrument recording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ists your active MINs with no assignment recording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available once a month for fr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can be ordered via work order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reports now available for 30 days in zipped format only after first six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Set Timeframe Limit for Reversals By the Registering Org 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18720"/>
            <a:ext cx="8229240" cy="38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gistering org, if different from servicer or sub-servicer on a MIN, has limit of 30 days from Registration Date to reverse the MIN in batch and MER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30 days a reversal will be processed as long as no TOS or TOB transaction  has been completed on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XML Inqui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18720"/>
            <a:ext cx="8229240" cy="38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inquiry available 24x7 except for scheduled maintenance window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 limit of 2,000 per hour evenly spa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ssing penalty for exceeding transaction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higher volumes, use batch inqui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eRegistry Release 7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BS00580_"/>
          <p:cNvPicPr/>
          <p:nvPr/>
        </p:nvPicPr>
        <p:blipFill>
          <a:blip r:embed="rId1"/>
          <a:stretch/>
        </p:blipFill>
        <p:spPr>
          <a:xfrm>
            <a:off x="2513160" y="1819080"/>
            <a:ext cx="4117320" cy="3468600"/>
          </a:xfrm>
          <a:prstGeom prst="rect">
            <a:avLst/>
          </a:prstGeom>
          <a:ln w="9525">
            <a:noFill/>
          </a:ln>
        </p:spPr>
      </p:pic>
      <p:sp>
        <p:nvSpPr>
          <p:cNvPr id="228" name="TextBox 6"/>
          <p:cNvSpPr/>
          <p:nvPr/>
        </p:nvSpPr>
        <p:spPr>
          <a:xfrm>
            <a:off x="3424680" y="5351760"/>
            <a:ext cx="347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June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dd Registration Date to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Summary and Status Inquiry Results 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19160"/>
            <a:ext cx="8229240" cy="37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ration date of an eNote has been added to the summary and status inquiry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s assistance to members in meeting investor requir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rther verification the eNote was registered in required timefr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synchronous Application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hanges to Member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98120"/>
            <a:ext cx="8229240" cy="392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member options available to facilitate participation in the asynchronous MERS® eRegistry and MERS® eDelivery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summary will indicate if member is synchronous or asynchronous particip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can continue to view and administer options using MER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ew Enhancement Items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3567240" y="2357280"/>
          <a:ext cx="1750680" cy="23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357280"/>
                    <a:ext cx="1750680" cy="23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tch Inquiry Changes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ch inquiry enhanced to provide results to vendors requesting on behalf of m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ed capabilities for ven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FraudALERT 1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BS00580_"/>
          <p:cNvPicPr/>
          <p:nvPr/>
        </p:nvPicPr>
        <p:blipFill>
          <a:blip r:embed="rId1"/>
          <a:stretch/>
        </p:blipFill>
        <p:spPr>
          <a:xfrm>
            <a:off x="2513160" y="1819080"/>
            <a:ext cx="4117320" cy="3468600"/>
          </a:xfrm>
          <a:prstGeom prst="rect">
            <a:avLst/>
          </a:prstGeom>
          <a:ln w="9525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2969280" y="5535720"/>
            <a:ext cx="335808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November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Key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n data submission gateway: web and b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report submission gateway: user interface and b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plat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e MERS® System for MIN registration, Org 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MERS® FraudALERT Dash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19040" y="1262880"/>
            <a:ext cx="8244360" cy="5469840"/>
          </a:xfrm>
          <a:prstGeom prst="rect">
            <a:avLst/>
          </a:prstGeom>
          <a:ln w="9525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7573680" y="3703680"/>
            <a:ext cx="128880" cy="174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6631560" y="3722400"/>
            <a:ext cx="239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earch Loan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rcRect l="0" t="22133" r="0" b="0"/>
          <a:stretch/>
        </p:blipFill>
        <p:spPr>
          <a:xfrm>
            <a:off x="175320" y="1581120"/>
            <a:ext cx="8863560" cy="499464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Search Incident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739080" y="1199520"/>
            <a:ext cx="7515720" cy="543960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reate Incident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89440" y="1130400"/>
            <a:ext cx="4134600" cy="554940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1927" t="16639" r="4324" b="2702"/>
          <a:stretch/>
        </p:blipFill>
        <p:spPr>
          <a:xfrm>
            <a:off x="4421520" y="1933920"/>
            <a:ext cx="4543200" cy="392400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pen Background without logo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RS Template 2009 v2</Template>
  <TotalTime>24</TotalTime>
  <Application>LibreOffice/7.4.7.2$Linux_X86_64 LibreOffice_project/40$Build-2</Application>
  <AppVersion>15.0000</AppVersion>
  <Words>791</Words>
  <Paragraphs>105</Paragraphs>
  <Company>MERS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6:58:03Z</dcterms:created>
  <dc:creator>karmelal</dc:creator>
  <dc:description>www.condorcom.com</dc:description>
  <dc:language>en-US</dc:language>
  <cp:lastModifiedBy>karmelal</cp:lastModifiedBy>
  <dcterms:modified xsi:type="dcterms:W3CDTF">2010-06-14T13:56:21Z</dcterms:modified>
  <cp:revision>5</cp:revision>
  <dc:subject/>
  <dc:title>Presentation Title Here,  36pt Calibri B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9</vt:r8>
  </property>
</Properties>
</file>